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2EE8D-D16D-4230-A8EC-B2EE5A17076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ADC36-A7AD-4167-8E46-B1FA535890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用“四舍法”试商的除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TextBox 4"/>
          <p:cNvSpPr/>
          <p:nvPr/>
        </p:nvSpPr>
        <p:spPr>
          <a:xfrm>
            <a:off x="5302080" y="503280"/>
            <a:ext cx="3384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二    三位数除以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36"/>
          <p:cNvSpPr/>
          <p:nvPr/>
        </p:nvSpPr>
        <p:spPr>
          <a:xfrm>
            <a:off x="965160" y="1276200"/>
            <a:ext cx="722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年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都乘大船，可以坐满几艘大船？还有多少人没有上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都乘小船，至少需要准备几艘小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367240" y="2044800"/>
          <a:ext cx="2660760" cy="793800"/>
        </p:xfrm>
        <a:graphic>
          <a:graphicData uri="http://schemas.openxmlformats.org/drawingml/2006/table">
            <a:tbl>
              <a:tblPr/>
              <a:tblGrid>
                <a:gridCol w="1317600"/>
                <a:gridCol w="1343160"/>
              </a:tblGrid>
              <a:tr h="39672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大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小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限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限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矩形 5"/>
          <p:cNvSpPr/>
          <p:nvPr/>
        </p:nvSpPr>
        <p:spPr>
          <a:xfrm>
            <a:off x="2535120" y="4632480"/>
            <a:ext cx="407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8÷3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艘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……3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艘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至少需要准备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艘小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4"/>
          <p:cNvSpPr/>
          <p:nvPr/>
        </p:nvSpPr>
        <p:spPr>
          <a:xfrm>
            <a:off x="1627200" y="2690640"/>
            <a:ext cx="585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8÷4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艘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……2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可以坐满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艘大船，还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没有上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6"/>
          <p:cNvSpPr/>
          <p:nvPr/>
        </p:nvSpPr>
        <p:spPr>
          <a:xfrm>
            <a:off x="965160" y="198900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杂志是半月刊，每月发行两期。最新的一期是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期。这本杂志创刊几年了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2797200" y="343368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4÷(2×12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本杂志创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36"/>
          <p:cNvSpPr/>
          <p:nvPr/>
        </p:nvSpPr>
        <p:spPr>
          <a:xfrm>
            <a:off x="965160" y="1276200"/>
            <a:ext cx="72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甲、乙两地的距离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米，张叔叔从甲地开车前往乙地，已经行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米，剩下的路程每小时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米，还要几小时才能到达乙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2417760" y="3130560"/>
            <a:ext cx="432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0÷6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小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还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小时才能到达乙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3"/>
          <p:cNvGrpSpPr/>
          <p:nvPr/>
        </p:nvGrpSpPr>
        <p:grpSpPr>
          <a:xfrm>
            <a:off x="965160" y="1382760"/>
            <a:ext cx="7229520" cy="2461680"/>
            <a:chOff x="965160" y="1382760"/>
            <a:chExt cx="7229520" cy="2461680"/>
          </a:xfrm>
        </p:grpSpPr>
        <p:sp>
          <p:nvSpPr>
            <p:cNvPr id="195" name="TextBox 36"/>
            <p:cNvSpPr/>
            <p:nvPr/>
          </p:nvSpPr>
          <p:spPr>
            <a:xfrm>
              <a:off x="965160" y="1382760"/>
              <a:ext cx="722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0720" indent="-450720">
                <a:lnSpc>
                  <a:spcPct val="150000"/>
                </a:lnSpc>
                <a:tabLst>
                  <a:tab algn="l" pos="0"/>
                  <a:tab algn="l" pos="35568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下面是小华做俯卧撑的统计表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36"/>
            <p:cNvSpPr/>
            <p:nvPr/>
          </p:nvSpPr>
          <p:spPr>
            <a:xfrm>
              <a:off x="965160" y="3201840"/>
              <a:ext cx="722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0720" indent="-9504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小华哪个月平均每天的成绩好些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2874960" y="2174760"/>
          <a:ext cx="3170160" cy="911520"/>
        </p:xfrm>
        <a:graphic>
          <a:graphicData uri="http://schemas.openxmlformats.org/drawingml/2006/table">
            <a:tbl>
              <a:tblPr/>
              <a:tblGrid>
                <a:gridCol w="1697040"/>
                <a:gridCol w="736560"/>
                <a:gridCol w="736560"/>
              </a:tblGrid>
              <a:tr h="459720">
                <a:tc>
                  <a:txBody>
                    <a:bodyPr lIns="68760" rIns="687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月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68760" rIns="687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总个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矩形 5"/>
          <p:cNvSpPr/>
          <p:nvPr/>
        </p:nvSpPr>
        <p:spPr>
          <a:xfrm>
            <a:off x="2048040" y="3960720"/>
            <a:ext cx="50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月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10÷3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……7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月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0÷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小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月份平均每天的成绩好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6"/>
          <p:cNvSpPr/>
          <p:nvPr/>
        </p:nvSpPr>
        <p:spPr>
          <a:xfrm>
            <a:off x="965160" y="1276200"/>
            <a:ext cx="72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条公路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在公路的两侧等距离栽树，每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栽一棵树，一共需要栽多少棵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2"/>
          <p:cNvSpPr/>
          <p:nvPr/>
        </p:nvSpPr>
        <p:spPr>
          <a:xfrm>
            <a:off x="2797200" y="2701800"/>
            <a:ext cx="35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0÷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1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1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一共需要栽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棵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13"/>
          <p:cNvSpPr/>
          <p:nvPr/>
        </p:nvSpPr>
        <p:spPr>
          <a:xfrm>
            <a:off x="990720" y="1994040"/>
            <a:ext cx="71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小马虎在计算有余数的除法时，把被除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成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已知它的商比正确的商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且余数相同。那么这道除法算式是怎样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203" name="圆角矩形 9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d4ad8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矩形 6"/>
          <p:cNvSpPr/>
          <p:nvPr/>
        </p:nvSpPr>
        <p:spPr>
          <a:xfrm>
            <a:off x="1716120" y="3807000"/>
            <a:ext cx="571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除数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7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7)÷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正确算式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7÷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……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道除法算式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7÷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……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11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13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233360" y="2136600"/>
            <a:ext cx="69249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熟练计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运用除法解决实际问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植树问题中，两端都栽树，“植树的棵数＝间隔数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1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6"/>
          <p:cNvSpPr/>
          <p:nvPr/>
        </p:nvSpPr>
        <p:spPr>
          <a:xfrm>
            <a:off x="1682640" y="1763640"/>
            <a:ext cx="702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里最大能填几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×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86" name="圆角矩形 11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d4ad8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矩形 2"/>
          <p:cNvSpPr/>
          <p:nvPr/>
        </p:nvSpPr>
        <p:spPr>
          <a:xfrm>
            <a:off x="6269040" y="3416400"/>
            <a:ext cx="3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2421720" y="244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6284160" y="246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2421720" y="3009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6284160" y="29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2461680" y="3540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6"/>
          <p:cNvSpPr/>
          <p:nvPr/>
        </p:nvSpPr>
        <p:spPr>
          <a:xfrm>
            <a:off x="965160" y="1276200"/>
            <a:ext cx="722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用竖式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6÷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　　　　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5÷4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2828160" y="1932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……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6793200" y="19382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……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7"/>
          <p:cNvGrpSpPr/>
          <p:nvPr/>
        </p:nvGrpSpPr>
        <p:grpSpPr>
          <a:xfrm>
            <a:off x="4671360" y="2481120"/>
            <a:ext cx="3353400" cy="3385800"/>
            <a:chOff x="4671360" y="2481120"/>
            <a:chExt cx="3353400" cy="3385800"/>
          </a:xfrm>
        </p:grpSpPr>
        <p:grpSp>
          <p:nvGrpSpPr>
            <p:cNvPr id="99" name="组合 3"/>
            <p:cNvGrpSpPr/>
            <p:nvPr/>
          </p:nvGrpSpPr>
          <p:grpSpPr>
            <a:xfrm>
              <a:off x="5154480" y="2481120"/>
              <a:ext cx="2870280" cy="3385800"/>
              <a:chOff x="5154480" y="2481120"/>
              <a:chExt cx="2870280" cy="3385800"/>
            </a:xfrm>
          </p:grpSpPr>
          <p:sp>
            <p:nvSpPr>
              <p:cNvPr id="100" name="矩形 13"/>
              <p:cNvSpPr/>
              <p:nvPr/>
            </p:nvSpPr>
            <p:spPr>
              <a:xfrm>
                <a:off x="5154480" y="3128040"/>
                <a:ext cx="5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4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1" name="组合 1"/>
              <p:cNvGrpSpPr/>
              <p:nvPr/>
            </p:nvGrpSpPr>
            <p:grpSpPr>
              <a:xfrm>
                <a:off x="5662440" y="2481120"/>
                <a:ext cx="2362320" cy="3385800"/>
                <a:chOff x="5662440" y="2481120"/>
                <a:chExt cx="2362320" cy="3385800"/>
              </a:xfrm>
            </p:grpSpPr>
            <p:sp>
              <p:nvSpPr>
                <p:cNvPr id="102" name="TextBox 15"/>
                <p:cNvSpPr/>
                <p:nvPr/>
              </p:nvSpPr>
              <p:spPr>
                <a:xfrm>
                  <a:off x="5792040" y="2481120"/>
                  <a:ext cx="223272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2  9  5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2  8  7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" name="直接连接符 15"/>
                <p:cNvSpPr/>
                <p:nvPr/>
              </p:nvSpPr>
              <p:spPr>
                <a:xfrm>
                  <a:off x="5662440" y="4154400"/>
                  <a:ext cx="15894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4" name="组合 16"/>
            <p:cNvGrpSpPr/>
            <p:nvPr/>
          </p:nvGrpSpPr>
          <p:grpSpPr>
            <a:xfrm>
              <a:off x="4671360" y="2547360"/>
              <a:ext cx="2521080" cy="1258560"/>
              <a:chOff x="4671360" y="2547360"/>
              <a:chExt cx="2521080" cy="1258560"/>
            </a:xfrm>
          </p:grpSpPr>
          <p:sp>
            <p:nvSpPr>
              <p:cNvPr id="105" name="直接连接符 10"/>
              <p:cNvSpPr/>
              <p:nvPr/>
            </p:nvSpPr>
            <p:spPr>
              <a:xfrm>
                <a:off x="5740200" y="3074760"/>
                <a:ext cx="1452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弧形 11"/>
              <p:cNvSpPr/>
              <p:nvPr/>
            </p:nvSpPr>
            <p:spPr>
              <a:xfrm rot="4684800">
                <a:off x="4729320" y="2680560"/>
                <a:ext cx="1076760" cy="991800"/>
              </a:xfrm>
              <a:custGeom>
                <a:avLst/>
                <a:gdLst/>
                <a:ahLst/>
                <a:rect l="l" t="t" r="r" b="b"/>
                <a:pathLst>
                  <a:path stroke="0" w="1076325" h="992254">
                    <a:moveTo>
                      <a:pt x="538162" y="0"/>
                    </a:moveTo>
                    <a:cubicBezTo>
                      <a:pt x="733811" y="0"/>
                      <a:pt x="914048" y="97888"/>
                      <a:pt x="1008880" y="255651"/>
                    </a:cubicBezTo>
                    <a:lnTo>
                      <a:pt x="538163" y="496127"/>
                    </a:lnTo>
                    <a:cubicBezTo>
                      <a:pt x="538163" y="330751"/>
                      <a:pt x="538162" y="165376"/>
                      <a:pt x="538162" y="0"/>
                    </a:cubicBezTo>
                    <a:close/>
                  </a:path>
                  <a:path fill="none" w="1076325" h="992254">
                    <a:moveTo>
                      <a:pt x="538162" y="0"/>
                    </a:moveTo>
                    <a:cubicBezTo>
                      <a:pt x="733811" y="0"/>
                      <a:pt x="914048" y="97888"/>
                      <a:pt x="1008880" y="255651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组合 16"/>
          <p:cNvGrpSpPr/>
          <p:nvPr/>
        </p:nvGrpSpPr>
        <p:grpSpPr>
          <a:xfrm>
            <a:off x="918720" y="2465280"/>
            <a:ext cx="3353400" cy="3385800"/>
            <a:chOff x="918720" y="2465280"/>
            <a:chExt cx="3353400" cy="3385800"/>
          </a:xfrm>
        </p:grpSpPr>
        <p:grpSp>
          <p:nvGrpSpPr>
            <p:cNvPr id="108" name="组合 3"/>
            <p:cNvGrpSpPr/>
            <p:nvPr/>
          </p:nvGrpSpPr>
          <p:grpSpPr>
            <a:xfrm>
              <a:off x="1401840" y="2465280"/>
              <a:ext cx="2870280" cy="3385800"/>
              <a:chOff x="1401840" y="2465280"/>
              <a:chExt cx="2870280" cy="3385800"/>
            </a:xfrm>
          </p:grpSpPr>
          <p:sp>
            <p:nvSpPr>
              <p:cNvPr id="109" name="矩形 13"/>
              <p:cNvSpPr/>
              <p:nvPr/>
            </p:nvSpPr>
            <p:spPr>
              <a:xfrm>
                <a:off x="1401840" y="3112200"/>
                <a:ext cx="5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3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0" name="组合 1"/>
              <p:cNvGrpSpPr/>
              <p:nvPr/>
            </p:nvGrpSpPr>
            <p:grpSpPr>
              <a:xfrm>
                <a:off x="1909800" y="2465280"/>
                <a:ext cx="2362320" cy="3385800"/>
                <a:chOff x="1909800" y="2465280"/>
                <a:chExt cx="2362320" cy="3385800"/>
              </a:xfrm>
            </p:grpSpPr>
            <p:sp>
              <p:nvSpPr>
                <p:cNvPr id="111" name="TextBox 15"/>
                <p:cNvSpPr/>
                <p:nvPr/>
              </p:nvSpPr>
              <p:spPr>
                <a:xfrm>
                  <a:off x="2039400" y="2465280"/>
                  <a:ext cx="223272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  7  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  6  0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  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直接连接符 24"/>
                <p:cNvSpPr/>
                <p:nvPr/>
              </p:nvSpPr>
              <p:spPr>
                <a:xfrm>
                  <a:off x="1909800" y="4138560"/>
                  <a:ext cx="15894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13" name="组合 16"/>
            <p:cNvGrpSpPr/>
            <p:nvPr/>
          </p:nvGrpSpPr>
          <p:grpSpPr>
            <a:xfrm>
              <a:off x="918720" y="2531520"/>
              <a:ext cx="2521080" cy="1258560"/>
              <a:chOff x="918720" y="2531520"/>
              <a:chExt cx="2521080" cy="1258560"/>
            </a:xfrm>
          </p:grpSpPr>
          <p:sp>
            <p:nvSpPr>
              <p:cNvPr id="114" name="直接连接符 19"/>
              <p:cNvSpPr/>
              <p:nvPr/>
            </p:nvSpPr>
            <p:spPr>
              <a:xfrm>
                <a:off x="1987200" y="3058920"/>
                <a:ext cx="1452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弧形 20"/>
              <p:cNvSpPr/>
              <p:nvPr/>
            </p:nvSpPr>
            <p:spPr>
              <a:xfrm rot="4684800">
                <a:off x="977040" y="2664360"/>
                <a:ext cx="1076760" cy="992160"/>
              </a:xfrm>
              <a:custGeom>
                <a:avLst/>
                <a:gdLst/>
                <a:ahLst/>
                <a:rect l="l" t="t" r="r" b="b"/>
                <a:pathLst>
                  <a:path stroke="0" w="1076325" h="992254">
                    <a:moveTo>
                      <a:pt x="538162" y="0"/>
                    </a:moveTo>
                    <a:cubicBezTo>
                      <a:pt x="733811" y="0"/>
                      <a:pt x="914048" y="97888"/>
                      <a:pt x="1008880" y="255651"/>
                    </a:cubicBezTo>
                    <a:lnTo>
                      <a:pt x="538163" y="496127"/>
                    </a:lnTo>
                    <a:cubicBezTo>
                      <a:pt x="538163" y="330751"/>
                      <a:pt x="538162" y="165376"/>
                      <a:pt x="538162" y="0"/>
                    </a:cubicBezTo>
                    <a:close/>
                  </a:path>
                  <a:path fill="none" w="1076325" h="992254">
                    <a:moveTo>
                      <a:pt x="538162" y="0"/>
                    </a:moveTo>
                    <a:cubicBezTo>
                      <a:pt x="733811" y="0"/>
                      <a:pt x="914048" y="97888"/>
                      <a:pt x="1008880" y="255651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6"/>
          <p:cNvSpPr/>
          <p:nvPr/>
        </p:nvSpPr>
        <p:spPr>
          <a:xfrm>
            <a:off x="963720" y="196380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4÷7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　　　　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8÷8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6793920" y="2070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……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2828160" y="2082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……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5"/>
          <p:cNvGrpSpPr/>
          <p:nvPr/>
        </p:nvGrpSpPr>
        <p:grpSpPr>
          <a:xfrm>
            <a:off x="918720" y="2608200"/>
            <a:ext cx="3353400" cy="3385800"/>
            <a:chOff x="918720" y="2608200"/>
            <a:chExt cx="3353400" cy="3385800"/>
          </a:xfrm>
        </p:grpSpPr>
        <p:grpSp>
          <p:nvGrpSpPr>
            <p:cNvPr id="120" name="组合 3"/>
            <p:cNvGrpSpPr/>
            <p:nvPr/>
          </p:nvGrpSpPr>
          <p:grpSpPr>
            <a:xfrm>
              <a:off x="1401840" y="2608200"/>
              <a:ext cx="2870280" cy="3385800"/>
              <a:chOff x="1401840" y="2608200"/>
              <a:chExt cx="2870280" cy="3385800"/>
            </a:xfrm>
          </p:grpSpPr>
          <p:sp>
            <p:nvSpPr>
              <p:cNvPr id="121" name="矩形 13"/>
              <p:cNvSpPr/>
              <p:nvPr/>
            </p:nvSpPr>
            <p:spPr>
              <a:xfrm>
                <a:off x="1401840" y="3255120"/>
                <a:ext cx="5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7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2" name="组合 1"/>
              <p:cNvGrpSpPr/>
              <p:nvPr/>
            </p:nvGrpSpPr>
            <p:grpSpPr>
              <a:xfrm>
                <a:off x="1909800" y="2608200"/>
                <a:ext cx="2362320" cy="3385800"/>
                <a:chOff x="1909800" y="2608200"/>
                <a:chExt cx="2362320" cy="3385800"/>
              </a:xfrm>
            </p:grpSpPr>
            <p:sp>
              <p:nvSpPr>
                <p:cNvPr id="123" name="TextBox 15"/>
                <p:cNvSpPr/>
                <p:nvPr/>
              </p:nvSpPr>
              <p:spPr>
                <a:xfrm>
                  <a:off x="2039400" y="2608200"/>
                  <a:ext cx="223272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6  0  4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5  8  4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2  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直接连接符 13"/>
                <p:cNvSpPr/>
                <p:nvPr/>
              </p:nvSpPr>
              <p:spPr>
                <a:xfrm>
                  <a:off x="1909800" y="4281480"/>
                  <a:ext cx="15894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5" name="组合 16"/>
            <p:cNvGrpSpPr/>
            <p:nvPr/>
          </p:nvGrpSpPr>
          <p:grpSpPr>
            <a:xfrm>
              <a:off x="918720" y="2674440"/>
              <a:ext cx="2521080" cy="1258560"/>
              <a:chOff x="918720" y="2674440"/>
              <a:chExt cx="2521080" cy="1258560"/>
            </a:xfrm>
          </p:grpSpPr>
          <p:sp>
            <p:nvSpPr>
              <p:cNvPr id="126" name="直接连接符 8"/>
              <p:cNvSpPr/>
              <p:nvPr/>
            </p:nvSpPr>
            <p:spPr>
              <a:xfrm>
                <a:off x="1987200" y="3201840"/>
                <a:ext cx="1452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弧形 9"/>
              <p:cNvSpPr/>
              <p:nvPr/>
            </p:nvSpPr>
            <p:spPr>
              <a:xfrm rot="4684800">
                <a:off x="977040" y="2807280"/>
                <a:ext cx="1076760" cy="992160"/>
              </a:xfrm>
              <a:custGeom>
                <a:avLst/>
                <a:gdLst/>
                <a:ahLst/>
                <a:rect l="l" t="t" r="r" b="b"/>
                <a:pathLst>
                  <a:path stroke="0" w="1076325" h="992254">
                    <a:moveTo>
                      <a:pt x="538162" y="0"/>
                    </a:moveTo>
                    <a:cubicBezTo>
                      <a:pt x="733811" y="0"/>
                      <a:pt x="914048" y="97888"/>
                      <a:pt x="1008880" y="255651"/>
                    </a:cubicBezTo>
                    <a:lnTo>
                      <a:pt x="538163" y="496127"/>
                    </a:lnTo>
                    <a:cubicBezTo>
                      <a:pt x="538163" y="330751"/>
                      <a:pt x="538162" y="165376"/>
                      <a:pt x="538162" y="0"/>
                    </a:cubicBezTo>
                    <a:close/>
                  </a:path>
                  <a:path fill="none" w="1076325" h="992254">
                    <a:moveTo>
                      <a:pt x="538162" y="0"/>
                    </a:moveTo>
                    <a:cubicBezTo>
                      <a:pt x="733811" y="0"/>
                      <a:pt x="914048" y="97888"/>
                      <a:pt x="1008880" y="255651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8" name="组合 14"/>
          <p:cNvGrpSpPr/>
          <p:nvPr/>
        </p:nvGrpSpPr>
        <p:grpSpPr>
          <a:xfrm>
            <a:off x="4671360" y="2624040"/>
            <a:ext cx="3353400" cy="3385800"/>
            <a:chOff x="4671360" y="2624040"/>
            <a:chExt cx="3353400" cy="3385800"/>
          </a:xfrm>
        </p:grpSpPr>
        <p:grpSp>
          <p:nvGrpSpPr>
            <p:cNvPr id="129" name="组合 3"/>
            <p:cNvGrpSpPr/>
            <p:nvPr/>
          </p:nvGrpSpPr>
          <p:grpSpPr>
            <a:xfrm>
              <a:off x="5154480" y="2624040"/>
              <a:ext cx="2870280" cy="3385800"/>
              <a:chOff x="5154480" y="2624040"/>
              <a:chExt cx="2870280" cy="3385800"/>
            </a:xfrm>
          </p:grpSpPr>
          <p:sp>
            <p:nvSpPr>
              <p:cNvPr id="130" name="矩形 13"/>
              <p:cNvSpPr/>
              <p:nvPr/>
            </p:nvSpPr>
            <p:spPr>
              <a:xfrm>
                <a:off x="5154480" y="3270960"/>
                <a:ext cx="5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8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1" name="组合 1"/>
              <p:cNvGrpSpPr/>
              <p:nvPr/>
            </p:nvGrpSpPr>
            <p:grpSpPr>
              <a:xfrm>
                <a:off x="5662440" y="2624040"/>
                <a:ext cx="2362320" cy="3385800"/>
                <a:chOff x="5662440" y="2624040"/>
                <a:chExt cx="2362320" cy="3385800"/>
              </a:xfrm>
            </p:grpSpPr>
            <p:sp>
              <p:nvSpPr>
                <p:cNvPr id="132" name="TextBox 15"/>
                <p:cNvSpPr/>
                <p:nvPr/>
              </p:nvSpPr>
              <p:spPr>
                <a:xfrm>
                  <a:off x="5792040" y="2624040"/>
                  <a:ext cx="223272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4  1  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  3  6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8  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直接连接符 22"/>
                <p:cNvSpPr/>
                <p:nvPr/>
              </p:nvSpPr>
              <p:spPr>
                <a:xfrm>
                  <a:off x="5662440" y="4297320"/>
                  <a:ext cx="15894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4" name="组合 16"/>
            <p:cNvGrpSpPr/>
            <p:nvPr/>
          </p:nvGrpSpPr>
          <p:grpSpPr>
            <a:xfrm>
              <a:off x="4671360" y="2690280"/>
              <a:ext cx="2521080" cy="1258560"/>
              <a:chOff x="4671360" y="2690280"/>
              <a:chExt cx="2521080" cy="1258560"/>
            </a:xfrm>
          </p:grpSpPr>
          <p:sp>
            <p:nvSpPr>
              <p:cNvPr id="135" name="直接连接符 17"/>
              <p:cNvSpPr/>
              <p:nvPr/>
            </p:nvSpPr>
            <p:spPr>
              <a:xfrm>
                <a:off x="5740200" y="3217680"/>
                <a:ext cx="1452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弧形 18"/>
              <p:cNvSpPr/>
              <p:nvPr/>
            </p:nvSpPr>
            <p:spPr>
              <a:xfrm rot="4684800">
                <a:off x="4729320" y="2823480"/>
                <a:ext cx="1076760" cy="991800"/>
              </a:xfrm>
              <a:custGeom>
                <a:avLst/>
                <a:gdLst/>
                <a:ahLst/>
                <a:rect l="l" t="t" r="r" b="b"/>
                <a:pathLst>
                  <a:path stroke="0" w="1076325" h="992254">
                    <a:moveTo>
                      <a:pt x="538162" y="0"/>
                    </a:moveTo>
                    <a:cubicBezTo>
                      <a:pt x="733811" y="0"/>
                      <a:pt x="914048" y="97888"/>
                      <a:pt x="1008880" y="255651"/>
                    </a:cubicBezTo>
                    <a:lnTo>
                      <a:pt x="538163" y="496127"/>
                    </a:lnTo>
                    <a:cubicBezTo>
                      <a:pt x="538163" y="330751"/>
                      <a:pt x="538162" y="165376"/>
                      <a:pt x="538162" y="0"/>
                    </a:cubicBezTo>
                    <a:close/>
                  </a:path>
                  <a:path fill="none" w="1076325" h="992254">
                    <a:moveTo>
                      <a:pt x="538162" y="0"/>
                    </a:moveTo>
                    <a:cubicBezTo>
                      <a:pt x="733811" y="0"/>
                      <a:pt x="914048" y="97888"/>
                      <a:pt x="1008880" y="255651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36"/>
          <p:cNvSpPr/>
          <p:nvPr/>
        </p:nvSpPr>
        <p:spPr>
          <a:xfrm>
            <a:off x="965160" y="202392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96÷8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　　　　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6÷7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2828160" y="2141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……8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6873120" y="212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组合 5"/>
          <p:cNvGrpSpPr/>
          <p:nvPr/>
        </p:nvGrpSpPr>
        <p:grpSpPr>
          <a:xfrm>
            <a:off x="918720" y="2631960"/>
            <a:ext cx="3353400" cy="3385800"/>
            <a:chOff x="918720" y="2631960"/>
            <a:chExt cx="3353400" cy="3385800"/>
          </a:xfrm>
        </p:grpSpPr>
        <p:grpSp>
          <p:nvGrpSpPr>
            <p:cNvPr id="141" name="组合 3"/>
            <p:cNvGrpSpPr/>
            <p:nvPr/>
          </p:nvGrpSpPr>
          <p:grpSpPr>
            <a:xfrm>
              <a:off x="1401840" y="2631960"/>
              <a:ext cx="2870280" cy="3385800"/>
              <a:chOff x="1401840" y="2631960"/>
              <a:chExt cx="2870280" cy="3385800"/>
            </a:xfrm>
          </p:grpSpPr>
          <p:sp>
            <p:nvSpPr>
              <p:cNvPr id="142" name="矩形 13"/>
              <p:cNvSpPr/>
              <p:nvPr/>
            </p:nvSpPr>
            <p:spPr>
              <a:xfrm>
                <a:off x="1401840" y="3278880"/>
                <a:ext cx="5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8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3" name="组合 1"/>
              <p:cNvGrpSpPr/>
              <p:nvPr/>
            </p:nvGrpSpPr>
            <p:grpSpPr>
              <a:xfrm>
                <a:off x="1909800" y="2631960"/>
                <a:ext cx="2362320" cy="3385800"/>
                <a:chOff x="1909800" y="2631960"/>
                <a:chExt cx="2362320" cy="3385800"/>
              </a:xfrm>
            </p:grpSpPr>
            <p:sp>
              <p:nvSpPr>
                <p:cNvPr id="144" name="TextBox 15"/>
                <p:cNvSpPr/>
                <p:nvPr/>
              </p:nvSpPr>
              <p:spPr>
                <a:xfrm>
                  <a:off x="2039400" y="2631960"/>
                  <a:ext cx="223272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4  9  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4  1  5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8  1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直接连接符 13"/>
                <p:cNvSpPr/>
                <p:nvPr/>
              </p:nvSpPr>
              <p:spPr>
                <a:xfrm>
                  <a:off x="1909800" y="4305240"/>
                  <a:ext cx="15894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6" name="组合 16"/>
            <p:cNvGrpSpPr/>
            <p:nvPr/>
          </p:nvGrpSpPr>
          <p:grpSpPr>
            <a:xfrm>
              <a:off x="918720" y="2698200"/>
              <a:ext cx="2521080" cy="1258560"/>
              <a:chOff x="918720" y="2698200"/>
              <a:chExt cx="2521080" cy="1258560"/>
            </a:xfrm>
          </p:grpSpPr>
          <p:sp>
            <p:nvSpPr>
              <p:cNvPr id="147" name="直接连接符 8"/>
              <p:cNvSpPr/>
              <p:nvPr/>
            </p:nvSpPr>
            <p:spPr>
              <a:xfrm>
                <a:off x="1987200" y="3225600"/>
                <a:ext cx="1452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弧形 9"/>
              <p:cNvSpPr/>
              <p:nvPr/>
            </p:nvSpPr>
            <p:spPr>
              <a:xfrm rot="4684800">
                <a:off x="977040" y="2831040"/>
                <a:ext cx="1076760" cy="992160"/>
              </a:xfrm>
              <a:custGeom>
                <a:avLst/>
                <a:gdLst/>
                <a:ahLst/>
                <a:rect l="l" t="t" r="r" b="b"/>
                <a:pathLst>
                  <a:path stroke="0" w="1076325" h="992254">
                    <a:moveTo>
                      <a:pt x="538162" y="0"/>
                    </a:moveTo>
                    <a:cubicBezTo>
                      <a:pt x="733811" y="0"/>
                      <a:pt x="914048" y="97888"/>
                      <a:pt x="1008880" y="255651"/>
                    </a:cubicBezTo>
                    <a:lnTo>
                      <a:pt x="538163" y="496127"/>
                    </a:lnTo>
                    <a:cubicBezTo>
                      <a:pt x="538163" y="330751"/>
                      <a:pt x="538162" y="165376"/>
                      <a:pt x="538162" y="0"/>
                    </a:cubicBezTo>
                    <a:close/>
                  </a:path>
                  <a:path fill="none" w="1076325" h="992254">
                    <a:moveTo>
                      <a:pt x="538162" y="0"/>
                    </a:moveTo>
                    <a:cubicBezTo>
                      <a:pt x="733811" y="0"/>
                      <a:pt x="914048" y="97888"/>
                      <a:pt x="1008880" y="255651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9" name="组合 14"/>
          <p:cNvGrpSpPr/>
          <p:nvPr/>
        </p:nvGrpSpPr>
        <p:grpSpPr>
          <a:xfrm>
            <a:off x="4671360" y="2635200"/>
            <a:ext cx="3353400" cy="3385800"/>
            <a:chOff x="4671360" y="2635200"/>
            <a:chExt cx="3353400" cy="3385800"/>
          </a:xfrm>
        </p:grpSpPr>
        <p:grpSp>
          <p:nvGrpSpPr>
            <p:cNvPr id="150" name="组合 3"/>
            <p:cNvGrpSpPr/>
            <p:nvPr/>
          </p:nvGrpSpPr>
          <p:grpSpPr>
            <a:xfrm>
              <a:off x="5154480" y="2635200"/>
              <a:ext cx="2870280" cy="3385800"/>
              <a:chOff x="5154480" y="2635200"/>
              <a:chExt cx="2870280" cy="3385800"/>
            </a:xfrm>
          </p:grpSpPr>
          <p:sp>
            <p:nvSpPr>
              <p:cNvPr id="151" name="矩形 13"/>
              <p:cNvSpPr/>
              <p:nvPr/>
            </p:nvSpPr>
            <p:spPr>
              <a:xfrm>
                <a:off x="5154480" y="3282120"/>
                <a:ext cx="5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7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52" name="组合 1"/>
              <p:cNvGrpSpPr/>
              <p:nvPr/>
            </p:nvGrpSpPr>
            <p:grpSpPr>
              <a:xfrm>
                <a:off x="5662440" y="2635200"/>
                <a:ext cx="2362320" cy="3385800"/>
                <a:chOff x="5662440" y="2635200"/>
                <a:chExt cx="2362320" cy="3385800"/>
              </a:xfrm>
            </p:grpSpPr>
            <p:sp>
              <p:nvSpPr>
                <p:cNvPr id="153" name="TextBox 15"/>
                <p:cNvSpPr/>
                <p:nvPr/>
              </p:nvSpPr>
              <p:spPr>
                <a:xfrm>
                  <a:off x="5792040" y="2635200"/>
                  <a:ext cx="223272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6  6  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6  6  6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直接连接符 22"/>
                <p:cNvSpPr/>
                <p:nvPr/>
              </p:nvSpPr>
              <p:spPr>
                <a:xfrm>
                  <a:off x="5662440" y="4308480"/>
                  <a:ext cx="15894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55" name="组合 16"/>
            <p:cNvGrpSpPr/>
            <p:nvPr/>
          </p:nvGrpSpPr>
          <p:grpSpPr>
            <a:xfrm>
              <a:off x="4671360" y="2701440"/>
              <a:ext cx="2521080" cy="1258560"/>
              <a:chOff x="4671360" y="2701440"/>
              <a:chExt cx="2521080" cy="1258560"/>
            </a:xfrm>
          </p:grpSpPr>
          <p:sp>
            <p:nvSpPr>
              <p:cNvPr id="156" name="直接连接符 17"/>
              <p:cNvSpPr/>
              <p:nvPr/>
            </p:nvSpPr>
            <p:spPr>
              <a:xfrm>
                <a:off x="5740200" y="3228840"/>
                <a:ext cx="1452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弧形 18"/>
              <p:cNvSpPr/>
              <p:nvPr/>
            </p:nvSpPr>
            <p:spPr>
              <a:xfrm rot="4684800">
                <a:off x="4729320" y="2834640"/>
                <a:ext cx="1076760" cy="991800"/>
              </a:xfrm>
              <a:custGeom>
                <a:avLst/>
                <a:gdLst/>
                <a:ahLst/>
                <a:rect l="l" t="t" r="r" b="b"/>
                <a:pathLst>
                  <a:path stroke="0" w="1076325" h="992254">
                    <a:moveTo>
                      <a:pt x="538162" y="0"/>
                    </a:moveTo>
                    <a:cubicBezTo>
                      <a:pt x="733811" y="0"/>
                      <a:pt x="914048" y="97888"/>
                      <a:pt x="1008880" y="255651"/>
                    </a:cubicBezTo>
                    <a:lnTo>
                      <a:pt x="538163" y="496127"/>
                    </a:lnTo>
                    <a:cubicBezTo>
                      <a:pt x="538163" y="330751"/>
                      <a:pt x="538162" y="165376"/>
                      <a:pt x="538162" y="0"/>
                    </a:cubicBezTo>
                    <a:close/>
                  </a:path>
                  <a:path fill="none" w="1076325" h="992254">
                    <a:moveTo>
                      <a:pt x="538162" y="0"/>
                    </a:moveTo>
                    <a:cubicBezTo>
                      <a:pt x="733811" y="0"/>
                      <a:pt x="914048" y="97888"/>
                      <a:pt x="1008880" y="255651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dell\AppData\Local\Temp\ksohtml\wps2972.tmp.jpg"/>
          <p:cNvPicPr/>
          <p:nvPr/>
        </p:nvPicPr>
        <p:blipFill>
          <a:blip r:embed="rId1"/>
          <a:stretch/>
        </p:blipFill>
        <p:spPr>
          <a:xfrm>
            <a:off x="28440" y="-76320"/>
            <a:ext cx="295560" cy="276480"/>
          </a:xfrm>
          <a:prstGeom prst="rect">
            <a:avLst/>
          </a:prstGeom>
          <a:ln w="0">
            <a:noFill/>
          </a:ln>
        </p:spPr>
      </p:pic>
      <p:grpSp>
        <p:nvGrpSpPr>
          <p:cNvPr id="159" name="组合 1"/>
          <p:cNvGrpSpPr/>
          <p:nvPr/>
        </p:nvGrpSpPr>
        <p:grpSpPr>
          <a:xfrm>
            <a:off x="965160" y="2071800"/>
            <a:ext cx="7229520" cy="2288520"/>
            <a:chOff x="965160" y="2071800"/>
            <a:chExt cx="7229520" cy="2288520"/>
          </a:xfrm>
        </p:grpSpPr>
        <p:sp>
          <p:nvSpPr>
            <p:cNvPr id="160" name="TextBox 36"/>
            <p:cNvSpPr/>
            <p:nvPr/>
          </p:nvSpPr>
          <p:spPr>
            <a:xfrm>
              <a:off x="965160" y="2071800"/>
              <a:ext cx="7229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01800"/>
                  <a:tab algn="l" pos="1352520"/>
                  <a:tab algn="l" pos="1803240"/>
                  <a:tab algn="l" pos="2254320"/>
                  <a:tab algn="l" pos="2705040"/>
                  <a:tab algn="l" pos="3156120"/>
                  <a:tab algn="l" pos="3606840"/>
                  <a:tab algn="l" pos="4057560"/>
                  <a:tab algn="l" pos="4508640"/>
                  <a:tab algn="l" pos="4959360"/>
                  <a:tab algn="l" pos="5410080"/>
                  <a:tab algn="l" pos="5861160"/>
                  <a:tab algn="l" pos="6311880"/>
                  <a:tab algn="l" pos="6762600"/>
                  <a:tab algn="l" pos="7213680"/>
                  <a:tab algn="l" pos="7664400"/>
                  <a:tab algn="l" pos="8115480"/>
                  <a:tab algn="l" pos="8566200"/>
                  <a:tab algn="l" pos="9016920"/>
                  <a:tab algn="l" pos="9468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不计算，在      里填上“＞”“＜ ”或“＝”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01800"/>
                  <a:tab algn="l" pos="1352520"/>
                  <a:tab algn="l" pos="1803240"/>
                  <a:tab algn="l" pos="2254320"/>
                  <a:tab algn="l" pos="2705040"/>
                  <a:tab algn="l" pos="3156120"/>
                  <a:tab algn="l" pos="3606840"/>
                  <a:tab algn="l" pos="4057560"/>
                  <a:tab algn="l" pos="4508640"/>
                  <a:tab algn="l" pos="4959360"/>
                  <a:tab algn="l" pos="5410080"/>
                  <a:tab algn="l" pos="5861160"/>
                  <a:tab algn="l" pos="6311880"/>
                  <a:tab algn="l" pos="6762600"/>
                  <a:tab algn="l" pos="7213680"/>
                  <a:tab algn="l" pos="7664400"/>
                  <a:tab algn="l" pos="8115480"/>
                  <a:tab algn="l" pos="8566200"/>
                  <a:tab algn="l" pos="9016920"/>
                  <a:tab algn="l" pos="9468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70÷43       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　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54÷81       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01800"/>
                  <a:tab algn="l" pos="1352520"/>
                  <a:tab algn="l" pos="1803240"/>
                  <a:tab algn="l" pos="2254320"/>
                  <a:tab algn="l" pos="2705040"/>
                  <a:tab algn="l" pos="3156120"/>
                  <a:tab algn="l" pos="3606840"/>
                  <a:tab algn="l" pos="4057560"/>
                  <a:tab algn="l" pos="4508640"/>
                  <a:tab algn="l" pos="4959360"/>
                  <a:tab algn="l" pos="5410080"/>
                  <a:tab algn="l" pos="5861160"/>
                  <a:tab algn="l" pos="6311880"/>
                  <a:tab algn="l" pos="6762600"/>
                  <a:tab algn="l" pos="7213680"/>
                  <a:tab algn="l" pos="7664400"/>
                  <a:tab algn="l" pos="8115480"/>
                  <a:tab algn="l" pos="8566200"/>
                  <a:tab algn="l" pos="9016920"/>
                  <a:tab algn="l" pos="9468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67÷72       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　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82÷53       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01800"/>
                  <a:tab algn="l" pos="1352520"/>
                  <a:tab algn="l" pos="1803240"/>
                  <a:tab algn="l" pos="2254320"/>
                  <a:tab algn="l" pos="2705040"/>
                  <a:tab algn="l" pos="3156120"/>
                  <a:tab algn="l" pos="3606840"/>
                  <a:tab algn="l" pos="4057560"/>
                  <a:tab algn="l" pos="4508640"/>
                  <a:tab algn="l" pos="4959360"/>
                  <a:tab algn="l" pos="5410080"/>
                  <a:tab algn="l" pos="5861160"/>
                  <a:tab algn="l" pos="6311880"/>
                  <a:tab algn="l" pos="6762600"/>
                  <a:tab algn="l" pos="7213680"/>
                  <a:tab algn="l" pos="7664400"/>
                  <a:tab algn="l" pos="8115480"/>
                  <a:tab algn="l" pos="8566200"/>
                  <a:tab algn="l" pos="9016920"/>
                  <a:tab algn="l" pos="9468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89÷21       9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　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93÷42       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1" name="Picture 3" descr=""/>
            <p:cNvPicPr/>
            <p:nvPr/>
          </p:nvPicPr>
          <p:blipFill>
            <a:blip r:embed="rId2"/>
            <a:stretch/>
          </p:blipFill>
          <p:spPr>
            <a:xfrm>
              <a:off x="3083760" y="2184120"/>
              <a:ext cx="483480" cy="4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3" descr=""/>
            <p:cNvPicPr/>
            <p:nvPr/>
          </p:nvPicPr>
          <p:blipFill>
            <a:blip r:embed="rId3"/>
            <a:stretch/>
          </p:blipFill>
          <p:spPr>
            <a:xfrm>
              <a:off x="2611800" y="2725920"/>
              <a:ext cx="483480" cy="4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3" descr=""/>
            <p:cNvPicPr/>
            <p:nvPr/>
          </p:nvPicPr>
          <p:blipFill>
            <a:blip r:embed="rId4"/>
            <a:stretch/>
          </p:blipFill>
          <p:spPr>
            <a:xfrm>
              <a:off x="2615760" y="3273120"/>
              <a:ext cx="483480" cy="4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3" descr=""/>
            <p:cNvPicPr/>
            <p:nvPr/>
          </p:nvPicPr>
          <p:blipFill>
            <a:blip r:embed="rId5"/>
            <a:stretch/>
          </p:blipFill>
          <p:spPr>
            <a:xfrm>
              <a:off x="2615760" y="3817440"/>
              <a:ext cx="483480" cy="4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3" descr=""/>
            <p:cNvPicPr/>
            <p:nvPr/>
          </p:nvPicPr>
          <p:blipFill>
            <a:blip r:embed="rId6"/>
            <a:stretch/>
          </p:blipFill>
          <p:spPr>
            <a:xfrm>
              <a:off x="6733800" y="2725920"/>
              <a:ext cx="483480" cy="4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3" descr=""/>
            <p:cNvPicPr/>
            <p:nvPr/>
          </p:nvPicPr>
          <p:blipFill>
            <a:blip r:embed="rId7"/>
            <a:stretch/>
          </p:blipFill>
          <p:spPr>
            <a:xfrm>
              <a:off x="6750000" y="3849840"/>
              <a:ext cx="483480" cy="4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" descr=""/>
            <p:cNvPicPr/>
            <p:nvPr/>
          </p:nvPicPr>
          <p:blipFill>
            <a:blip r:embed="rId8"/>
            <a:stretch/>
          </p:blipFill>
          <p:spPr>
            <a:xfrm>
              <a:off x="6730920" y="3279960"/>
              <a:ext cx="483480" cy="4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矩形 11"/>
          <p:cNvSpPr/>
          <p:nvPr/>
        </p:nvSpPr>
        <p:spPr>
          <a:xfrm>
            <a:off x="6372360" y="3732120"/>
            <a:ext cx="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"/>
          <p:cNvSpPr/>
          <p:nvPr/>
        </p:nvSpPr>
        <p:spPr>
          <a:xfrm>
            <a:off x="2248920" y="2725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3"/>
          <p:cNvSpPr/>
          <p:nvPr/>
        </p:nvSpPr>
        <p:spPr>
          <a:xfrm>
            <a:off x="6373440" y="271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0"/>
          <p:cNvSpPr/>
          <p:nvPr/>
        </p:nvSpPr>
        <p:spPr>
          <a:xfrm>
            <a:off x="2250720" y="3249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6371640" y="3182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3"/>
          <p:cNvSpPr/>
          <p:nvPr/>
        </p:nvSpPr>
        <p:spPr>
          <a:xfrm>
            <a:off x="2181240" y="389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6"/>
          <p:cNvSpPr/>
          <p:nvPr/>
        </p:nvSpPr>
        <p:spPr>
          <a:xfrm>
            <a:off x="1441440" y="1989000"/>
            <a:ext cx="722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不用计算，很快写出下面各题的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÷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4÷6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6÷4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0÷8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0÷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2÷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5823000" y="4200480"/>
            <a:ext cx="4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"/>
          <p:cNvSpPr/>
          <p:nvPr/>
        </p:nvSpPr>
        <p:spPr>
          <a:xfrm>
            <a:off x="1830600" y="323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3801240" y="323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4"/>
          <p:cNvSpPr/>
          <p:nvPr/>
        </p:nvSpPr>
        <p:spPr>
          <a:xfrm>
            <a:off x="5820840" y="3203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5"/>
          <p:cNvSpPr/>
          <p:nvPr/>
        </p:nvSpPr>
        <p:spPr>
          <a:xfrm>
            <a:off x="1830600" y="4319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3878280" y="4319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1"/>
          <p:cNvGrpSpPr/>
          <p:nvPr/>
        </p:nvGrpSpPr>
        <p:grpSpPr>
          <a:xfrm>
            <a:off x="965160" y="1276200"/>
            <a:ext cx="7229520" cy="3385800"/>
            <a:chOff x="965160" y="1276200"/>
            <a:chExt cx="7229520" cy="3385800"/>
          </a:xfrm>
        </p:grpSpPr>
        <p:sp>
          <p:nvSpPr>
            <p:cNvPr id="182" name="TextBox 36"/>
            <p:cNvSpPr/>
            <p:nvPr/>
          </p:nvSpPr>
          <p:spPr>
            <a:xfrm>
              <a:off x="965160" y="1276200"/>
              <a:ext cx="72295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解决问题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①50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元可以买几个篮球？还剩多少元钱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元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足球够吗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3" name="Picture 1" descr=""/>
            <p:cNvPicPr/>
            <p:nvPr/>
          </p:nvPicPr>
          <p:blipFill>
            <a:blip r:embed="rId1"/>
            <a:stretch/>
          </p:blipFill>
          <p:spPr>
            <a:xfrm>
              <a:off x="5498280" y="2441880"/>
              <a:ext cx="1519920" cy="78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矩形 4"/>
          <p:cNvSpPr/>
          <p:nvPr/>
        </p:nvSpPr>
        <p:spPr>
          <a:xfrm>
            <a:off x="1941480" y="4578480"/>
            <a:ext cx="52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3×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7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足球不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5"/>
          <p:cNvSpPr/>
          <p:nvPr/>
        </p:nvSpPr>
        <p:spPr>
          <a:xfrm>
            <a:off x="1928880" y="2692440"/>
            <a:ext cx="52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÷8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……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可以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篮球，还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cp:keywords/>
  <dc:language>en-US</dc:language>
  <cp:lastModifiedBy>Administrator</cp:lastModifiedBy>
  <dcterms:modified xsi:type="dcterms:W3CDTF">2017-11-12T11:14:52Z</dcterms:modified>
  <cp:revision>4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